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4.png" ContentType="image/png"/>
  <Override PartName="/ppt/media/image3.jpeg" ContentType="image/jpeg"/>
  <Override PartName="/ppt/media/image15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1.jpeg" ContentType="image/jpe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1DD0B-3F0E-4077-B11F-EED4C203695B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D70E8-BFEC-4900-B760-57013E1DD652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4F80A-789F-4430-8D9A-719BF94BD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27B82-C604-436D-89F0-317BE0D8D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644AF-E808-4DFA-9481-83822C30F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D1158-7A11-4868-A660-61DF2B2BB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BB4D5-160F-4843-8ADC-8998E9E71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C1565-C36F-4F85-8959-5481E58C0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0DF48-E6E1-46C6-9723-577046A13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9DBF8-DE29-4C1D-963C-9008DB472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D4AEF-BD29-481C-9E20-4BA3A40FB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F1A9E-3B45-44E5-9B8C-2AC963474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61897-641B-473B-ADC0-DDFA3611C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B9E7C-F8FA-4127-84F0-841C83E20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2E13E-9932-4CBA-8C03-66C13689D4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http://www.swiat-prezentacji.pl/pobieranie" TargetMode="External"/><Relationship Id="rId2" Type="http://schemas.openxmlformats.org/officeDocument/2006/relationships/hyperlink" Target="http://www.interklasa.pl/" TargetMode="External"/><Relationship Id="rId3" Type="http://schemas.openxmlformats.org/officeDocument/2006/relationships/hyperlink" Target="http://www.szkolnictwo.pl/" TargetMode="External"/><Relationship Id="rId4" Type="http://schemas.openxmlformats.org/officeDocument/2006/relationships/hyperlink" Target="http://www.matematyka.opracowania.pl/gimnazjum/" TargetMode="External"/><Relationship Id="rId5" Type="http://schemas.openxmlformats.org/officeDocument/2006/relationships/hyperlink" Target="http://www.matematyka.opracowania.pl/gimnazjum/" TargetMode="External"/><Relationship Id="rId6" Type="http://schemas.openxmlformats.org/officeDocument/2006/relationships/hyperlink" Target="http://www.matematyka.opracowania.pl/gimnazjum/" TargetMode="External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igury podobne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0" y="5300640"/>
            <a:ext cx="411480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lasa III gimnazju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2520720" cy="17179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http://www.medianauka.pl/matematyka/grafika/rysunek147.jpg"/>
          <p:cNvPicPr/>
          <p:nvPr/>
        </p:nvPicPr>
        <p:blipFill>
          <a:blip r:embed="rId2"/>
          <a:stretch/>
        </p:blipFill>
        <p:spPr>
          <a:xfrm>
            <a:off x="468360" y="2924280"/>
            <a:ext cx="4829040" cy="24764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5940360" y="1197000"/>
            <a:ext cx="287964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PRZYKŁADY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68360" y="836280"/>
            <a:ext cx="8229600" cy="401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PRZYKŁAD 3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Trójkąt ABC ma boki długości 21 cm, 24 cm i 18 cm.           Jakie długości mają boki trójkąta DEF podobnego do trójkąta ABC w skali  </a:t>
            </a:r>
            <a:r>
              <a:rPr b="0" lang="pl-PL" sz="2800" spc="-1" strike="noStrike">
                <a:solidFill>
                  <a:srgbClr val="800080"/>
                </a:solidFill>
                <a:latin typeface="Calibri"/>
              </a:rPr>
              <a:t>1:3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 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Ile razy obwód trójkąta DEF jest mniejszy od obwodu trójkąta ABC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just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c0504d"/>
                </a:solidFill>
                <a:latin typeface="Times New Roman"/>
              </a:rPr>
              <a:t>    </a:t>
            </a:r>
            <a:r>
              <a:rPr b="0" lang="pl-PL" sz="2800" spc="-1" strike="noStrike">
                <a:solidFill>
                  <a:srgbClr val="c0504d"/>
                </a:solidFill>
                <a:latin typeface="Times New Roman"/>
              </a:rPr>
              <a:t>Aby obliczyć długości boków trójkąta DEF, mnożymy długości boków trójkąta ABC przez skalę podobieństwa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ozwiązani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Obraz 7" descr="p3_1.gif"/>
          <p:cNvPicPr/>
          <p:nvPr/>
        </p:nvPicPr>
        <p:blipFill>
          <a:blip r:embed="rId1"/>
          <a:stretch/>
        </p:blipFill>
        <p:spPr>
          <a:xfrm>
            <a:off x="1258920" y="1773360"/>
            <a:ext cx="6613560" cy="1047600"/>
          </a:xfrm>
          <a:prstGeom prst="rect">
            <a:avLst/>
          </a:prstGeom>
          <a:ln w="0">
            <a:noFill/>
          </a:ln>
        </p:spPr>
      </p:pic>
      <p:pic>
        <p:nvPicPr>
          <p:cNvPr id="94" name="Obraz 8" descr="p3_2.gif"/>
          <p:cNvPicPr/>
          <p:nvPr/>
        </p:nvPicPr>
        <p:blipFill>
          <a:blip r:embed="rId2"/>
          <a:stretch/>
        </p:blipFill>
        <p:spPr>
          <a:xfrm>
            <a:off x="2700360" y="3500280"/>
            <a:ext cx="3168720" cy="10796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1116000" y="5211000"/>
            <a:ext cx="626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oki trójkąta DEF wynoszą: 7cm, 8cm, 6cm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528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PRZYKŁADY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500040" y="642960"/>
            <a:ext cx="82296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PRZYKŁAD 3 – ciąg dalszy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Obliczamy teraz obwody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Ob</a:t>
            </a:r>
            <a:r>
              <a:rPr b="0" lang="pl-PL" sz="2800" spc="-1" strike="noStrike" baseline="-25000">
                <a:solidFill>
                  <a:srgbClr val="000000"/>
                </a:solidFill>
                <a:latin typeface="Calibri"/>
              </a:rPr>
              <a:t>ABC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 = 21 cm + 24 cm + 18 cm = 63 c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Ob</a:t>
            </a:r>
            <a:r>
              <a:rPr b="0" lang="pl-PL" sz="2800" spc="-1" strike="noStrike" baseline="-25000">
                <a:solidFill>
                  <a:srgbClr val="000000"/>
                </a:solidFill>
                <a:latin typeface="Calibri"/>
              </a:rPr>
              <a:t>DEF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 = 7 cm + 8 cm + 6 cm = 21 c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Ob</a:t>
            </a:r>
            <a:r>
              <a:rPr b="0" lang="pl-PL" sz="2800" spc="-1" strike="noStrike" baseline="-25000">
                <a:solidFill>
                  <a:srgbClr val="000000"/>
                </a:solidFill>
                <a:latin typeface="Calibri"/>
              </a:rPr>
              <a:t>ABC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 :  Ob</a:t>
            </a:r>
            <a:r>
              <a:rPr b="0" lang="pl-PL" sz="2800" spc="-1" strike="noStrike" baseline="-25000">
                <a:solidFill>
                  <a:srgbClr val="000000"/>
                </a:solidFill>
                <a:latin typeface="Calibri"/>
              </a:rPr>
              <a:t>DEF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 =  63 cm : 21 cm = 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Obwód trójkąta DEF jest trzy razy mniejszy                          od obwodu trójkąta AB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504d"/>
                </a:solidFill>
                <a:latin typeface="Calibri"/>
              </a:rPr>
              <a:t>spostrzeżeni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Tak naprawdę nie musieliśmy wyliczać obwodów                i dzielić ich przez siebie, wystarczyło spojrzeć na skalę podobieństwa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</a:t>
            </a:r>
            <a:r>
              <a:rPr b="1" lang="en-US" sz="2800" spc="-1" strike="noStrike">
                <a:solidFill>
                  <a:srgbClr val="c0504d"/>
                </a:solidFill>
                <a:latin typeface="Calibri"/>
                <a:ea typeface="Times New Roman"/>
              </a:rPr>
              <a:t>Trójkąt DEF jest podobny do trójkąta ABC w skali 1:3, oznacza to, że trójkąt DEF jest trzy razy mniejszy od trójkąta ABC, a więc jego obwód także jest trzy razy mniejsz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UWAGA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57120" y="1142640"/>
            <a:ext cx="832968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Stosunek obwodów figur podobnych jest równy skali podobieństw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Ob – obwód figury wyjściowej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Ob’ – obwód figury podobnej do figury wyjściowej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k – skala podobieństwa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Obraz 8" descr="wz_3.gif"/>
          <p:cNvPicPr/>
          <p:nvPr/>
        </p:nvPicPr>
        <p:blipFill>
          <a:blip r:embed="rId1"/>
          <a:stretch/>
        </p:blipFill>
        <p:spPr>
          <a:xfrm>
            <a:off x="4000680" y="3000240"/>
            <a:ext cx="1247760" cy="8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PRZYKŁADOWE ZADANIA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357120" y="928800"/>
            <a:ext cx="8329680" cy="59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ZADANIE 1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Narysowane poniżej wielokąty są podobn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00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Jaka jest skala podobieństwa większego wielokąta do mniejszego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00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Jaka jest skala podobieństwa mniejszego wielokąta do większego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00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Oblicz długości boków oznaczonych literami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Obraz 5" descr="z1.gif"/>
          <p:cNvPicPr/>
          <p:nvPr/>
        </p:nvPicPr>
        <p:blipFill>
          <a:blip r:embed="rId1"/>
          <a:stretch/>
        </p:blipFill>
        <p:spPr>
          <a:xfrm>
            <a:off x="900000" y="4437000"/>
            <a:ext cx="7258320" cy="224784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 flipV="1">
            <a:off x="1332000" y="4797000"/>
            <a:ext cx="1008000" cy="57636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5580000" y="4941720"/>
            <a:ext cx="793800" cy="4320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0040" y="-143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PRZYKŁADOWE ZADANIA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23640" y="692280"/>
            <a:ext cx="8329320" cy="59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ZADANIE 1 – ciąg dalsz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00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Aby obliczyć skalę podobieństwa większego wielokąta do mniejszego, dzielimy przez siebie długość jednego z boków większego wielokąta przez długość odpowiadającego mu boku z mniejszego wielokąta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00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b) Skala podobieństwa mniejszego wielokąta do większego jest liczbą odwrotną do skali obliczonej w podpunkcie a, czyli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Obraz 4" descr="z1_1.gif"/>
          <p:cNvPicPr/>
          <p:nvPr/>
        </p:nvPicPr>
        <p:blipFill>
          <a:blip r:embed="rId1"/>
          <a:stretch/>
        </p:blipFill>
        <p:spPr>
          <a:xfrm>
            <a:off x="1042920" y="3213000"/>
            <a:ext cx="1828800" cy="885960"/>
          </a:xfrm>
          <a:prstGeom prst="rect">
            <a:avLst/>
          </a:prstGeom>
          <a:ln w="0">
            <a:noFill/>
          </a:ln>
        </p:spPr>
      </p:pic>
      <p:pic>
        <p:nvPicPr>
          <p:cNvPr id="111" name="Obraz 5" descr="z1_2.gif"/>
          <p:cNvPicPr/>
          <p:nvPr/>
        </p:nvPicPr>
        <p:blipFill>
          <a:blip r:embed="rId2"/>
          <a:stretch/>
        </p:blipFill>
        <p:spPr>
          <a:xfrm>
            <a:off x="1619280" y="5589720"/>
            <a:ext cx="1219320" cy="89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PRZYKŁADOWE ZADANIA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57120" y="928800"/>
            <a:ext cx="8329680" cy="59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ZADANIE 1 – ciąg dalsz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c) Aby obliczyć długość boków x i y mnożymy długości odpowiadających im boków z mniejszej figury przez skalę podobieństwa większego wielokąta do mniejszego (powiększamy boki)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Obraz 4" descr="z1.gif"/>
          <p:cNvPicPr/>
          <p:nvPr/>
        </p:nvPicPr>
        <p:blipFill>
          <a:blip r:embed="rId1"/>
          <a:stretch/>
        </p:blipFill>
        <p:spPr>
          <a:xfrm>
            <a:off x="500040" y="1214280"/>
            <a:ext cx="7257960" cy="2248200"/>
          </a:xfrm>
          <a:prstGeom prst="rect">
            <a:avLst/>
          </a:prstGeom>
          <a:ln w="0">
            <a:noFill/>
          </a:ln>
        </p:spPr>
      </p:pic>
      <p:pic>
        <p:nvPicPr>
          <p:cNvPr id="115" name="Obraz 6" descr="z1_3.gif"/>
          <p:cNvPicPr/>
          <p:nvPr/>
        </p:nvPicPr>
        <p:blipFill>
          <a:blip r:embed="rId2"/>
          <a:stretch/>
        </p:blipFill>
        <p:spPr>
          <a:xfrm>
            <a:off x="428760" y="5572080"/>
            <a:ext cx="2371680" cy="771480"/>
          </a:xfrm>
          <a:prstGeom prst="rect">
            <a:avLst/>
          </a:prstGeom>
          <a:ln w="0">
            <a:noFill/>
          </a:ln>
        </p:spPr>
      </p:pic>
      <p:pic>
        <p:nvPicPr>
          <p:cNvPr id="116" name="Obraz 7" descr="z1_4.gif"/>
          <p:cNvPicPr/>
          <p:nvPr/>
        </p:nvPicPr>
        <p:blipFill>
          <a:blip r:embed="rId3"/>
          <a:stretch/>
        </p:blipFill>
        <p:spPr>
          <a:xfrm>
            <a:off x="3857760" y="5572080"/>
            <a:ext cx="2562120" cy="7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PRZYKŁADOWE ZADANIA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ole tekstowe 18"/>
          <p:cNvSpPr/>
          <p:nvPr/>
        </p:nvSpPr>
        <p:spPr>
          <a:xfrm>
            <a:off x="285840" y="1071720"/>
            <a:ext cx="83581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ZADANIE 1 – ciąg dalsz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Aby obliczyć długości boków a i b mnożymy odpowiadające im długości boków większego wielokąta przez skalę podobieństwa mniejszego wielokąta do większego (pomniejszamy boki)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Obraz 6" descr="z1_5.gif"/>
          <p:cNvPicPr/>
          <p:nvPr/>
        </p:nvPicPr>
        <p:blipFill>
          <a:blip r:embed="rId1"/>
          <a:stretch/>
        </p:blipFill>
        <p:spPr>
          <a:xfrm>
            <a:off x="428760" y="3429000"/>
            <a:ext cx="276228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ZADANIE dodatkow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ole tekstowe 18"/>
          <p:cNvSpPr/>
          <p:nvPr/>
        </p:nvSpPr>
        <p:spPr>
          <a:xfrm>
            <a:off x="428760" y="1000080"/>
            <a:ext cx="83581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ZADANIE 2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Przedstawione na rysunku trójkąty są równoboczne. Jaka jest skala podobieństwa mniejszego trójkąta do większego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Bok mniejszego trójkąta jest jednocześnie wysokością większego trójkąta. Jeśli oznaczymy bok większego trójkąta przez a, jego wysokość można wyliczyć ze wzoru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Obraz 6" descr="z2.gif"/>
          <p:cNvPicPr/>
          <p:nvPr/>
        </p:nvPicPr>
        <p:blipFill>
          <a:blip r:embed="rId1"/>
          <a:stretch/>
        </p:blipFill>
        <p:spPr>
          <a:xfrm>
            <a:off x="3429000" y="2714760"/>
            <a:ext cx="2276640" cy="1819080"/>
          </a:xfrm>
          <a:prstGeom prst="rect">
            <a:avLst/>
          </a:prstGeom>
          <a:ln w="0">
            <a:noFill/>
          </a:ln>
        </p:spPr>
      </p:pic>
      <p:pic>
        <p:nvPicPr>
          <p:cNvPr id="123" name="Obraz 7" descr="z2_1.gif"/>
          <p:cNvPicPr/>
          <p:nvPr/>
        </p:nvPicPr>
        <p:blipFill>
          <a:blip r:embed="rId2"/>
          <a:stretch/>
        </p:blipFill>
        <p:spPr>
          <a:xfrm>
            <a:off x="3500280" y="5786280"/>
            <a:ext cx="1305000" cy="9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FIGURY PODOBNE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ole tekstowe 5"/>
          <p:cNvSpPr/>
          <p:nvPr/>
        </p:nvSpPr>
        <p:spPr>
          <a:xfrm>
            <a:off x="428760" y="1071720"/>
            <a:ext cx="82864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gurami podobnymi są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każde dwa odcink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każde dwa koł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każde dwa okręg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każde dwie pros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każde dwa kwadra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każde dwa trójkąty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równobocz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każde dwie figury, które mają taki sam kształt, a różnią się najwyżej wielkości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Łącznik prosty 10"/>
          <p:cNvSpPr/>
          <p:nvPr/>
        </p:nvSpPr>
        <p:spPr>
          <a:xfrm>
            <a:off x="6357960" y="1285920"/>
            <a:ext cx="1143000" cy="357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Łącznik prosty 11"/>
          <p:cNvSpPr/>
          <p:nvPr/>
        </p:nvSpPr>
        <p:spPr>
          <a:xfrm>
            <a:off x="4714920" y="1428840"/>
            <a:ext cx="1857240" cy="2858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Elipsa 15"/>
          <p:cNvSpPr/>
          <p:nvPr/>
        </p:nvSpPr>
        <p:spPr>
          <a:xfrm>
            <a:off x="6929280" y="2928960"/>
            <a:ext cx="785880" cy="7858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Elipsa 16"/>
          <p:cNvSpPr/>
          <p:nvPr/>
        </p:nvSpPr>
        <p:spPr>
          <a:xfrm>
            <a:off x="7572240" y="1714680"/>
            <a:ext cx="1214640" cy="1214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Elipsa 17"/>
          <p:cNvSpPr/>
          <p:nvPr/>
        </p:nvSpPr>
        <p:spPr>
          <a:xfrm>
            <a:off x="4857840" y="1928880"/>
            <a:ext cx="1071360" cy="1071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Elipsa 18"/>
          <p:cNvSpPr/>
          <p:nvPr/>
        </p:nvSpPr>
        <p:spPr>
          <a:xfrm>
            <a:off x="3938760" y="2367000"/>
            <a:ext cx="714240" cy="7142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Łącznik prosty 20"/>
          <p:cNvSpPr/>
          <p:nvPr/>
        </p:nvSpPr>
        <p:spPr>
          <a:xfrm>
            <a:off x="857160" y="5357880"/>
            <a:ext cx="2357640" cy="428400"/>
          </a:xfrm>
          <a:prstGeom prst="line">
            <a:avLst/>
          </a:prstGeom>
          <a:ln w="19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Łącznik prosty 21"/>
          <p:cNvSpPr/>
          <p:nvPr/>
        </p:nvSpPr>
        <p:spPr>
          <a:xfrm>
            <a:off x="357120" y="5429160"/>
            <a:ext cx="2643120" cy="1143000"/>
          </a:xfrm>
          <a:prstGeom prst="line">
            <a:avLst/>
          </a:prstGeom>
          <a:ln w="19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rostokąt 24"/>
          <p:cNvSpPr/>
          <p:nvPr/>
        </p:nvSpPr>
        <p:spPr>
          <a:xfrm>
            <a:off x="4500720" y="5286240"/>
            <a:ext cx="714240" cy="714600"/>
          </a:xfrm>
          <a:prstGeom prst="rect">
            <a:avLst/>
          </a:prstGeom>
          <a:gradFill rotWithShape="0">
            <a:gsLst>
              <a:gs pos="0">
                <a:srgbClr val="cb6c1d"/>
              </a:gs>
              <a:gs pos="100000">
                <a:srgbClr val="ff8f26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rostokąt 25"/>
          <p:cNvSpPr/>
          <p:nvPr/>
        </p:nvSpPr>
        <p:spPr>
          <a:xfrm>
            <a:off x="5429160" y="5143680"/>
            <a:ext cx="1285920" cy="1285560"/>
          </a:xfrm>
          <a:prstGeom prst="rect">
            <a:avLst/>
          </a:prstGeom>
          <a:gradFill rotWithShape="0">
            <a:gsLst>
              <a:gs pos="0">
                <a:srgbClr val="cb6c1d"/>
              </a:gs>
              <a:gs pos="100000">
                <a:srgbClr val="ff8f26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rójkąt równoramienny 26"/>
          <p:cNvSpPr/>
          <p:nvPr/>
        </p:nvSpPr>
        <p:spPr>
          <a:xfrm>
            <a:off x="7643880" y="4929120"/>
            <a:ext cx="579240" cy="500040"/>
          </a:xfrm>
          <a:prstGeom prst="triangle">
            <a:avLst>
              <a:gd name="adj" fmla="val 50000"/>
            </a:avLst>
          </a:prstGeom>
          <a:solidFill>
            <a:srgbClr val="002060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rójkąt równoramienny 27"/>
          <p:cNvSpPr/>
          <p:nvPr/>
        </p:nvSpPr>
        <p:spPr>
          <a:xfrm rot="2064000">
            <a:off x="7770960" y="5516280"/>
            <a:ext cx="993600" cy="857160"/>
          </a:xfrm>
          <a:prstGeom prst="triangle">
            <a:avLst>
              <a:gd name="adj" fmla="val 50000"/>
            </a:avLst>
          </a:prstGeom>
          <a:solidFill>
            <a:srgbClr val="002060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ZADANIE dodatkow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ole tekstowe 18"/>
          <p:cNvSpPr/>
          <p:nvPr/>
        </p:nvSpPr>
        <p:spPr>
          <a:xfrm>
            <a:off x="395280" y="981000"/>
            <a:ext cx="83581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ZADANIE 2 – ciąg dalsz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Skalę podobieństwa obliczamy dzieląc długość boku mniejszego trójkąta – h, przez długość boku większego trójkąta – a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Obraz 5" descr="z2_2.gif"/>
          <p:cNvPicPr/>
          <p:nvPr/>
        </p:nvPicPr>
        <p:blipFill>
          <a:blip r:embed="rId1"/>
          <a:stretch/>
        </p:blipFill>
        <p:spPr>
          <a:xfrm>
            <a:off x="1403280" y="3357720"/>
            <a:ext cx="5040360" cy="115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odobieństwo prostokątów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Symbol zastępczy zawartości 7" descr="wz4.gif"/>
          <p:cNvPicPr/>
          <p:nvPr/>
        </p:nvPicPr>
        <p:blipFill>
          <a:blip r:embed="rId1"/>
          <a:stretch/>
        </p:blipFill>
        <p:spPr>
          <a:xfrm>
            <a:off x="2928960" y="3643200"/>
            <a:ext cx="3476520" cy="2152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9" name=""/>
          <p:cNvGraphicFramePr/>
          <p:nvPr/>
        </p:nvGraphicFramePr>
        <p:xfrm>
          <a:off x="468360" y="1197000"/>
          <a:ext cx="8248680" cy="2358720"/>
        </p:xfrm>
        <a:graphic>
          <a:graphicData uri="http://schemas.openxmlformats.org/drawingml/2006/table">
            <a:tbl>
              <a:tblPr/>
              <a:tblGrid>
                <a:gridCol w="8248680"/>
              </a:tblGrid>
              <a:tr h="235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by rozstrzygnąć, czy dwa prostokąty są podobne, wystarczy sprawdzić, czy stosunek dwóch prostopadłych boków jednego prostokąta jest równy stosunkowi długości odpowiednich boków drugiego prostokąta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PRZYKŁADOWE ZADANIA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ole tekstowe 18"/>
          <p:cNvSpPr/>
          <p:nvPr/>
        </p:nvSpPr>
        <p:spPr>
          <a:xfrm>
            <a:off x="428760" y="1000080"/>
            <a:ext cx="8358120" cy="23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dowodnij, że prostokąty o wymiarach: 9cm x 12cm               i 32dm x 24dm są podobne. Jaka jest skala podobieństwa większego prostokąta do mniejszego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/>
          <p:nvPr/>
        </p:nvSpPr>
        <p:spPr>
          <a:xfrm>
            <a:off x="539640" y="3500280"/>
            <a:ext cx="345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32 dm = 320 c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24 dm = 240 c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PRZYKŁADOWE ZADANIA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ole tekstowe 18"/>
          <p:cNvSpPr/>
          <p:nvPr/>
        </p:nvSpPr>
        <p:spPr>
          <a:xfrm>
            <a:off x="428760" y="1000080"/>
            <a:ext cx="8358120" cy="57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ZADANI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– ciąg dalsz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Powyższa równość świadczy o tym, że dane prostokąty są podobne,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nie określa ona jednak skali podobieństw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Obraz 4" descr="z3.gif"/>
          <p:cNvPicPr/>
          <p:nvPr/>
        </p:nvPicPr>
        <p:blipFill>
          <a:blip r:embed="rId1"/>
          <a:stretch/>
        </p:blipFill>
        <p:spPr>
          <a:xfrm>
            <a:off x="468360" y="1628640"/>
            <a:ext cx="253512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PRZYKŁADOWE ZADANIA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ole tekstowe 18"/>
          <p:cNvSpPr/>
          <p:nvPr/>
        </p:nvSpPr>
        <p:spPr>
          <a:xfrm>
            <a:off x="395280" y="981000"/>
            <a:ext cx="8358120" cy="32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ZADANIE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– ciąg dalsz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Aby obliczyć skalę podobieństwa</a:t>
            </a:r>
            <a:r>
              <a:rPr b="1" lang="pl-PL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dzielę długość np. dłuższego boku większego prostokąta przez długość dłuższego boku mniejszego prostokąta, sprowadzając wcześniej długości do wspólnej jednostki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1979640" y="4437000"/>
                <a:ext cx="2592360" cy="116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2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80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24000" y="2276640"/>
            <a:ext cx="8229600" cy="1785600"/>
          </a:xfrm>
          <a:prstGeom prst="rect">
            <a:avLst/>
          </a:prstGeom>
          <a:solidFill>
            <a:srgbClr val="cef21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odobieństwo trójkątów prostokątnych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468360" y="1440360"/>
            <a:ext cx="813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wa trójkąty prostokątne są podobne, jeżeli stosunek długości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zyprostokątnych w jednym trójkącie jest równy stosunkowi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ługości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odpowiednich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przyprostokątnych w drugim trójkącie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/>
          <p:nvPr/>
        </p:nvSpPr>
        <p:spPr>
          <a:xfrm>
            <a:off x="539640" y="189000"/>
            <a:ext cx="8229600" cy="114300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 cecha podobieństwa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/>
          <p:nvPr/>
        </p:nvSpPr>
        <p:spPr>
          <a:xfrm>
            <a:off x="971640" y="2852640"/>
            <a:ext cx="1079280" cy="1943280"/>
          </a:xfrm>
          <a:prstGeom prst="rtTriangl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/>
          <p:nvPr/>
        </p:nvSpPr>
        <p:spPr>
          <a:xfrm>
            <a:off x="4427640" y="2708280"/>
            <a:ext cx="1584360" cy="2448000"/>
          </a:xfrm>
          <a:prstGeom prst="rtTriangl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Symbol zastępczy tekstu 2"/>
              <p:cNvSpPr txBox="1"/>
              <p:nvPr/>
            </p:nvSpPr>
            <p:spPr>
              <a:xfrm>
                <a:off x="1187280" y="4797360"/>
                <a:ext cx="3924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" name="Symbol zastępczy tekstu 2"/>
              <p:cNvSpPr txBox="1"/>
              <p:nvPr/>
            </p:nvSpPr>
            <p:spPr>
              <a:xfrm>
                <a:off x="611280" y="3573360"/>
                <a:ext cx="409320" cy="57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Symbol zastępczy tekstu 2"/>
              <p:cNvSpPr txBox="1"/>
              <p:nvPr/>
            </p:nvSpPr>
            <p:spPr>
              <a:xfrm>
                <a:off x="4859280" y="5084640"/>
                <a:ext cx="412920" cy="50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" name="Symbol zastępczy tekstu 2"/>
              <p:cNvSpPr txBox="1"/>
              <p:nvPr/>
            </p:nvSpPr>
            <p:spPr>
              <a:xfrm>
                <a:off x="3954600" y="3500280"/>
                <a:ext cx="50796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9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2771640" y="5229360"/>
                <a:ext cx="1330560" cy="121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d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1" name=""/>
          <p:cNvSpPr/>
          <p:nvPr/>
        </p:nvSpPr>
        <p:spPr>
          <a:xfrm>
            <a:off x="4076640" y="4797360"/>
            <a:ext cx="717480" cy="72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568" y="2"/>
                </a:moveTo>
                <a:arcTo wR="10800" hR="10800" stAng="-5473918" swAng="5342952"/>
                <a:lnTo>
                  <a:pt x="10800" y="10800"/>
                </a:lnTo>
                <a:close/>
              </a:path>
              <a:path fill="none" w="21600" h="21600">
                <a:moveTo>
                  <a:pt x="10568" y="2"/>
                </a:moveTo>
                <a:arcTo wR="10800" hR="10800" stAng="-5473918" swAng="5342952"/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/>
          <p:nvPr/>
        </p:nvSpPr>
        <p:spPr>
          <a:xfrm>
            <a:off x="620640" y="4437000"/>
            <a:ext cx="717480" cy="72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568" y="2"/>
                </a:moveTo>
                <a:arcTo wR="10800" hR="10800" stAng="-5473918" swAng="5342952"/>
                <a:lnTo>
                  <a:pt x="10800" y="10800"/>
                </a:lnTo>
                <a:close/>
              </a:path>
              <a:path fill="none" w="21600" h="21600">
                <a:moveTo>
                  <a:pt x="10568" y="2"/>
                </a:moveTo>
                <a:arcTo wR="10800" hR="10800" stAng="-5473918" swAng="5342952"/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54" name=""/>
          <p:cNvSpPr/>
          <p:nvPr/>
        </p:nvSpPr>
        <p:spPr>
          <a:xfrm>
            <a:off x="0" y="3371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4500720" y="4941720"/>
                <a:ext cx="114120" cy="1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56" name=""/>
          <p:cNvSpPr/>
          <p:nvPr/>
        </p:nvSpPr>
        <p:spPr>
          <a:xfrm>
            <a:off x="0" y="3371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1042920" y="4581360"/>
                <a:ext cx="114480" cy="1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I cecha podobieństwa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9" name="" descr="Podobie&amp;nacute;stwo figur."/>
          <p:cNvPicPr/>
          <p:nvPr/>
        </p:nvPicPr>
        <p:blipFill>
          <a:blip r:embed="rId1"/>
          <a:stretch/>
        </p:blipFill>
        <p:spPr>
          <a:xfrm>
            <a:off x="395280" y="2781360"/>
            <a:ext cx="8137440" cy="294156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468360" y="1540080"/>
            <a:ext cx="813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eżeli dwa trójkąty prostokątne mają po jednym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kącie ostrym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równym, to te trójkąty są podobne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3348000" y="4869000"/>
                <a:ext cx="1727280" cy="84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  <m:r>
                      <m:t xml:space="preserve">=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Uwag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1187280" y="4869000"/>
                <a:ext cx="1513080" cy="9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</m:num>
                      <m:den>
                        <m:r>
                          <m:t xml:space="preserve">e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f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5940360" y="5013360"/>
                <a:ext cx="147636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c</m:t>
                        </m:r>
                        <m:r>
                          <m:t xml:space="preserve">+</m:t>
                        </m:r>
                        <m:r>
                          <m:t xml:space="preserve">d</m:t>
                        </m:r>
                      </m:num>
                      <m:den>
                        <m:r>
                          <m:t xml:space="preserve">e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f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7" name=""/>
          <p:cNvSpPr/>
          <p:nvPr/>
        </p:nvSpPr>
        <p:spPr>
          <a:xfrm>
            <a:off x="1403280" y="1989000"/>
            <a:ext cx="3889440" cy="2160720"/>
          </a:xfrm>
          <a:prstGeom prst="rtTriangle">
            <a:avLst/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"/>
          <p:cNvSpPr/>
          <p:nvPr/>
        </p:nvSpPr>
        <p:spPr>
          <a:xfrm>
            <a:off x="2700360" y="2708280"/>
            <a:ext cx="2592360" cy="1441440"/>
          </a:xfrm>
          <a:prstGeom prst="rtTriangle">
            <a:avLst/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4281120" y="3576600"/>
            <a:ext cx="432720" cy="1441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5396" y="1027"/>
                </a:moveTo>
                <a:arcTo wR="10800" hR="10800" stAng="-3888983" swAng="3236294"/>
                <a:lnTo>
                  <a:pt x="10800" y="10800"/>
                </a:lnTo>
                <a:close/>
              </a:path>
              <a:path fill="none" w="21600" h="21600">
                <a:moveTo>
                  <a:pt x="15396" y="1027"/>
                </a:moveTo>
                <a:arcTo wR="10800" hR="10800" stAng="-3888983" swAng="3236294"/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2124000" y="1916280"/>
                <a:ext cx="453960" cy="5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1908000" y="4149720"/>
                <a:ext cx="43668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3564000" y="4076640"/>
                <a:ext cx="39348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3564000" y="2852640"/>
                <a:ext cx="40320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4" name=""/>
          <p:cNvSpPr/>
          <p:nvPr/>
        </p:nvSpPr>
        <p:spPr>
          <a:xfrm>
            <a:off x="4236840" y="2456640"/>
            <a:ext cx="39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/>
          <p:nvPr/>
        </p:nvSpPr>
        <p:spPr>
          <a:xfrm>
            <a:off x="4236840" y="3329640"/>
            <a:ext cx="250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"/>
          <p:cNvSpPr/>
          <p:nvPr/>
        </p:nvSpPr>
        <p:spPr>
          <a:xfrm>
            <a:off x="4141800" y="2204280"/>
            <a:ext cx="28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"/>
          <p:cNvSpPr/>
          <p:nvPr/>
        </p:nvSpPr>
        <p:spPr>
          <a:xfrm>
            <a:off x="4237560" y="4202640"/>
            <a:ext cx="2005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1042920" y="2924280"/>
                <a:ext cx="461880" cy="57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2268360" y="2924280"/>
                <a:ext cx="439920" cy="57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0" name=""/>
          <p:cNvSpPr/>
          <p:nvPr/>
        </p:nvSpPr>
        <p:spPr>
          <a:xfrm>
            <a:off x="1800" y="3120120"/>
            <a:ext cx="21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3573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539280" y="4653000"/>
            <a:ext cx="7620120" cy="178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100 = 8 x  / : 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x = 12,5 m – szerokość rzek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Odp. Rzeka ma szerokość 12,5 m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Rectangle 4"/>
          <p:cNvSpPr/>
          <p:nvPr/>
        </p:nvSpPr>
        <p:spPr>
          <a:xfrm>
            <a:off x="1219320" y="457200"/>
            <a:ext cx="731520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Zadanie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acek i Wacek stoją na przeciwnych brzegach rzeki.                                        Korzystając z danych na rysunku, oblicz szerokość rzeki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4" name="Picture 5" descr="1"/>
          <p:cNvPicPr/>
          <p:nvPr/>
        </p:nvPicPr>
        <p:blipFill>
          <a:blip r:embed="rId1"/>
          <a:stretch/>
        </p:blipFill>
        <p:spPr>
          <a:xfrm>
            <a:off x="1042920" y="1628640"/>
            <a:ext cx="7458120" cy="267516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3708360" y="4076640"/>
                <a:ext cx="934920" cy="75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7740720" y="4365720"/>
                <a:ext cx="826920" cy="66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9" name=""/>
          <p:cNvSpPr/>
          <p:nvPr/>
        </p:nvSpPr>
        <p:spPr>
          <a:xfrm>
            <a:off x="6948360" y="450792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ub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"/>
          <p:cNvSpPr/>
          <p:nvPr/>
        </p:nvSpPr>
        <p:spPr>
          <a:xfrm rot="2403000">
            <a:off x="5237640" y="3018240"/>
            <a:ext cx="732600" cy="715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5965" y="1315"/>
                </a:moveTo>
                <a:arcTo wR="10800" hR="10800" stAng="-3685813" swAng="3992367"/>
                <a:lnTo>
                  <a:pt x="10800" y="10800"/>
                </a:lnTo>
                <a:close/>
              </a:path>
              <a:path fill="none" w="21600" h="21600">
                <a:moveTo>
                  <a:pt x="15965" y="1315"/>
                </a:moveTo>
                <a:arcTo wR="10800" hR="10800" stAng="-3685813" swAng="3992367"/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"/>
          <p:cNvSpPr/>
          <p:nvPr/>
        </p:nvSpPr>
        <p:spPr>
          <a:xfrm rot="13043400">
            <a:off x="3757680" y="2736360"/>
            <a:ext cx="733320" cy="715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5090" y="888"/>
                </a:moveTo>
                <a:arcTo wR="10800" hR="10800" stAng="-3995826" swAng="4302380"/>
                <a:lnTo>
                  <a:pt x="10800" y="10800"/>
                </a:lnTo>
                <a:close/>
              </a:path>
              <a:path fill="none" w="21600" h="21600">
                <a:moveTo>
                  <a:pt x="15090" y="888"/>
                </a:moveTo>
                <a:arcTo wR="10800" hR="10800" stAng="-3995826" swAng="4302380"/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ytuł 1"/>
          <p:cNvSpPr/>
          <p:nvPr/>
        </p:nvSpPr>
        <p:spPr>
          <a:xfrm>
            <a:off x="4287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FIGURY PODOBNE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ole tekstowe 4"/>
          <p:cNvSpPr/>
          <p:nvPr/>
        </p:nvSpPr>
        <p:spPr>
          <a:xfrm>
            <a:off x="428760" y="785880"/>
            <a:ext cx="828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357120" y="1000080"/>
          <a:ext cx="8286840" cy="1928880"/>
        </p:xfrm>
        <a:graphic>
          <a:graphicData uri="http://schemas.openxmlformats.org/drawingml/2006/table">
            <a:tbl>
              <a:tblPr/>
              <a:tblGrid>
                <a:gridCol w="8286840"/>
              </a:tblGrid>
              <a:tr h="192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wa wielokąty o takiej samie liczbie boków nazywamy wielokątami podobnymi, jeżeli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ją odpowiednie kąty wewnętrzne rów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osunek odpowiadających sobie boków jest równy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0" name=""/>
          <p:cNvGraphicFramePr/>
          <p:nvPr/>
        </p:nvGraphicFramePr>
        <p:xfrm>
          <a:off x="357120" y="3214800"/>
          <a:ext cx="8286840" cy="1928880"/>
        </p:xfrm>
        <a:graphic>
          <a:graphicData uri="http://schemas.openxmlformats.org/drawingml/2006/table">
            <a:tbl>
              <a:tblPr/>
              <a:tblGrid>
                <a:gridCol w="8286840"/>
              </a:tblGrid>
              <a:tr h="192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czbę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równą stosunkowi długości odpowiadających sobie odcinków figur podobnych nazywamy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kalą podobieństwa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</a:tr>
            </a:tbl>
          </a:graphicData>
        </a:graphic>
      </p:graphicFrame>
      <p:sp>
        <p:nvSpPr>
          <p:cNvPr id="71" name="pole tekstowe 8"/>
          <p:cNvSpPr/>
          <p:nvPr/>
        </p:nvSpPr>
        <p:spPr>
          <a:xfrm>
            <a:off x="357120" y="5286240"/>
            <a:ext cx="8286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odobieństwo oznaczamy: A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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B (czytaj: figura A jest podobna do figury B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Zadanie. 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szt wysokości 5 m rzuca cień długości 7,5 m. W tym samym czasie w tej samej miejscowości pewien budynek rzuca cień długości 36 m. Jaką wysokość ma ten budynek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3" name="Picture 4" descr="1"/>
          <p:cNvPicPr/>
          <p:nvPr/>
        </p:nvPicPr>
        <p:blipFill>
          <a:blip r:embed="rId1"/>
          <a:stretch/>
        </p:blipFill>
        <p:spPr>
          <a:xfrm>
            <a:off x="3635280" y="1628640"/>
            <a:ext cx="5094360" cy="336420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5"/>
          <p:cNvSpPr/>
          <p:nvPr/>
        </p:nvSpPr>
        <p:spPr>
          <a:xfrm>
            <a:off x="468360" y="4941720"/>
            <a:ext cx="4174920" cy="16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7,5 x = 18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x = 24 m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Odp. Budynek ma wysokość 24 m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"/>
          <p:cNvSpPr/>
          <p:nvPr/>
        </p:nvSpPr>
        <p:spPr>
          <a:xfrm rot="16200000">
            <a:off x="6336360" y="3320280"/>
            <a:ext cx="432000" cy="2665440"/>
          </a:xfrm>
          <a:custGeom>
            <a:avLst/>
            <a:gdLst>
              <a:gd name="textAreaLeft" fmla="*/ 276120 w 432000"/>
              <a:gd name="textAreaRight" fmla="*/ 432360 w 432000"/>
              <a:gd name="textAreaTop" fmla="*/ 69480 h 2665440"/>
              <a:gd name="textAreaBottom" fmla="*/ 2595960 h 2665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"/>
          <p:cNvSpPr/>
          <p:nvPr/>
        </p:nvSpPr>
        <p:spPr>
          <a:xfrm>
            <a:off x="6229440" y="494100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m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"/>
          <p:cNvSpPr/>
          <p:nvPr/>
        </p:nvSpPr>
        <p:spPr>
          <a:xfrm>
            <a:off x="5435640" y="4437000"/>
            <a:ext cx="576360" cy="144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539640" y="4005360"/>
                <a:ext cx="1152720" cy="83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7,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Calibri"/>
              </a:rPr>
              <a:t>Pola figur podobnych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68360" y="2491920"/>
            <a:ext cx="8229600" cy="1368360"/>
          </a:xfrm>
          <a:prstGeom prst="rect">
            <a:avLst/>
          </a:prstGeom>
          <a:solidFill>
            <a:srgbClr val="cef21a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Calibri"/>
              </a:rPr>
              <a:t>    </a:t>
            </a:r>
            <a:r>
              <a:rPr b="1" lang="en-US" sz="3200" spc="-1" strike="noStrike">
                <a:solidFill>
                  <a:srgbClr val="800080"/>
                </a:solidFill>
                <a:latin typeface="Calibri"/>
              </a:rPr>
              <a:t>Stosunek pól figur podobnych jest równy kwadratowi skali podobieństw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Zad.2/141 podręcznik GW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wie figury o polach 72c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4,5c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ą podobne. Jaka jest skala podobieństwa mniejszej z tych figur do większej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3009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5" name=""/>
              <p:cNvSpPr txBox="1"/>
              <p:nvPr/>
            </p:nvSpPr>
            <p:spPr>
              <a:xfrm>
                <a:off x="1835280" y="3284640"/>
                <a:ext cx="3958920" cy="25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k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f>
                          <m:num>
                            <m:r>
                              <m:t xml:space="preserve">4,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72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4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720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</m:den>
                        </m:f>
                      </m:e>
                      <m:e>
                        <m:r>
                          <m:t xml:space="preserve">k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16</m:t>
                                </m:r>
                              </m:den>
                            </m:f>
                          </m:e>
                        </m:rad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06" name=""/>
          <p:cNvSpPr/>
          <p:nvPr/>
        </p:nvSpPr>
        <p:spPr>
          <a:xfrm>
            <a:off x="755640" y="6017400"/>
            <a:ext cx="7345440" cy="368280"/>
          </a:xfrm>
          <a:prstGeom prst="rect">
            <a:avLst/>
          </a:prstGeom>
          <a:solidFill>
            <a:srgbClr val="cef2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dp. Skala podobieństwa mniejszej figury do większej wynosi 1:4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Zad. 1/141 -rozwiązani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"/>
          <p:cNvSpPr/>
          <p:nvPr/>
        </p:nvSpPr>
        <p:spPr>
          <a:xfrm>
            <a:off x="971640" y="1697760"/>
            <a:ext cx="568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‘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~ F     w skali 2:3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2181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971640" y="2492280"/>
                <a:ext cx="2943000" cy="347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2</m:t>
                                    </m:r>
                                  </m:num>
                                  <m:den>
                                    <m:r>
                                      <m:t xml:space="preserve">3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F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den>
                        </m:f>
                      </m:e>
                      <m:e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9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F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den>
                        </m:f>
                      </m:e>
                      <m:e>
                        <m:r>
                          <m:t xml:space="preserve">9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12" name=""/>
          <p:cNvSpPr/>
          <p:nvPr/>
        </p:nvSpPr>
        <p:spPr>
          <a:xfrm>
            <a:off x="0" y="3171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3" name=""/>
              <p:cNvSpPr txBox="1"/>
              <p:nvPr/>
            </p:nvSpPr>
            <p:spPr>
              <a:xfrm>
                <a:off x="5364000" y="1341360"/>
                <a:ext cx="1548000" cy="126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k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r>
                          <m:t xml:space="preserve">F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14" name=""/>
          <p:cNvSpPr/>
          <p:nvPr/>
        </p:nvSpPr>
        <p:spPr>
          <a:xfrm>
            <a:off x="0" y="2895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5" name=""/>
              <p:cNvSpPr txBox="1"/>
              <p:nvPr/>
            </p:nvSpPr>
            <p:spPr>
              <a:xfrm>
                <a:off x="6084720" y="2708280"/>
                <a:ext cx="2160720" cy="28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9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48</m:t>
                        </m:r>
                      </m:e>
                      <m:e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48</m:t>
                            </m:r>
                          </m:num>
                          <m:den>
                            <m:r>
                              <m:t xml:space="preserve">9</m:t>
                            </m:r>
                          </m:den>
                        </m:f>
                      </m:e>
                      <m:e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m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16" name=""/>
          <p:cNvSpPr/>
          <p:nvPr/>
        </p:nvSpPr>
        <p:spPr>
          <a:xfrm>
            <a:off x="7093080" y="5273640"/>
            <a:ext cx="1655640" cy="1584360"/>
          </a:xfrm>
          <a:prstGeom prst="upArrowCallout">
            <a:avLst>
              <a:gd name="adj1" fmla="val 26127"/>
              <a:gd name="adj2" fmla="val 26125"/>
              <a:gd name="adj3" fmla="val 16667"/>
              <a:gd name="adj4" fmla="val 6666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"/>
          <p:cNvSpPr/>
          <p:nvPr/>
        </p:nvSpPr>
        <p:spPr>
          <a:xfrm>
            <a:off x="7093080" y="616572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le figu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cd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"/>
          <p:cNvSpPr/>
          <p:nvPr/>
        </p:nvSpPr>
        <p:spPr>
          <a:xfrm>
            <a:off x="971640" y="1697760"/>
            <a:ext cx="568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~ F ‘    w skali  6:1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Zad. 3/14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/>
          <p:nvPr/>
        </p:nvSpPr>
        <p:spPr>
          <a:xfrm>
            <a:off x="1042920" y="1340280"/>
            <a:ext cx="7532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Należy wykorzystać wzory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na skalę podobieństw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i kwadrat skali podobieństwa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"/>
          <p:cNvSpPr/>
          <p:nvPr/>
        </p:nvSpPr>
        <p:spPr>
          <a:xfrm>
            <a:off x="0" y="3171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5364000" y="3429000"/>
                <a:ext cx="1872000" cy="153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k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r>
                          <m:t xml:space="preserve">F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25" name=""/>
          <p:cNvSpPr/>
          <p:nvPr/>
        </p:nvSpPr>
        <p:spPr>
          <a:xfrm>
            <a:off x="0" y="3141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6" name=""/>
              <p:cNvSpPr txBox="1"/>
              <p:nvPr/>
            </p:nvSpPr>
            <p:spPr>
              <a:xfrm>
                <a:off x="1332000" y="3284640"/>
                <a:ext cx="1655640" cy="16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Zad. 5/14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6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ymiary na plani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ymiary w rzeczywistośc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6300720" y="1197000"/>
                <a:ext cx="2073240" cy="20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1" name=""/>
          <p:cNvSpPr/>
          <p:nvPr/>
        </p:nvSpPr>
        <p:spPr>
          <a:xfrm>
            <a:off x="900000" y="2205000"/>
            <a:ext cx="5329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iteratura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 u="sng">
                <a:solidFill>
                  <a:srgbClr val="0000ff"/>
                </a:solidFill>
                <a:uFillTx/>
                <a:latin typeface="Times New Roman"/>
                <a:hlinkClick r:id="rId1"/>
              </a:rPr>
              <a:t>www.swiat-prezentacji.pl/pobieranie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 u="sng">
                <a:solidFill>
                  <a:srgbClr val="0000ff"/>
                </a:solidFill>
                <a:uFillTx/>
                <a:latin typeface="Times New Roman"/>
                <a:hlinkClick r:id="rId2"/>
              </a:rPr>
              <a:t>www.interklasa.p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 u="sng">
                <a:solidFill>
                  <a:srgbClr val="0000ff"/>
                </a:solidFill>
                <a:uFillTx/>
                <a:latin typeface="Times New Roman"/>
                <a:hlinkClick r:id="rId3"/>
              </a:rPr>
              <a:t>www.szkolnictwo.p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 u="sng">
                <a:solidFill>
                  <a:srgbClr val="0000ff"/>
                </a:solidFill>
                <a:uFillTx/>
                <a:latin typeface="Times New Roman"/>
                <a:hlinkClick r:id="rId4"/>
              </a:rPr>
              <a:t>www.matematyka.opracowania.pl</a:t>
            </a:r>
            <a:r>
              <a:rPr b="0" lang="pl-PL" sz="2400" spc="-1" strike="noStrike" u="sng">
                <a:solidFill>
                  <a:srgbClr val="0000ff"/>
                </a:solidFill>
                <a:uFillTx/>
                <a:latin typeface="Times New Roman"/>
                <a:hlinkClick r:id="rId5"/>
              </a:rPr>
              <a:t>/gimnazjum</a:t>
            </a:r>
            <a:r>
              <a:rPr b="0" lang="pl-PL" sz="2400" spc="-1" strike="noStrike" u="sng">
                <a:solidFill>
                  <a:srgbClr val="0000ff"/>
                </a:solidFill>
                <a:uFillTx/>
                <a:latin typeface="Times New Roman"/>
                <a:hlinkClick r:id="rId6"/>
              </a:rPr>
              <a:t>/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ytuł 1"/>
          <p:cNvSpPr/>
          <p:nvPr/>
        </p:nvSpPr>
        <p:spPr>
          <a:xfrm>
            <a:off x="500040" y="-142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PRZYKŁADY FIGUR PODOBNYCH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Obraz 5" descr="przyklady figur podobnych_1.gif"/>
          <p:cNvPicPr/>
          <p:nvPr/>
        </p:nvPicPr>
        <p:blipFill>
          <a:blip r:embed="rId1"/>
          <a:stretch/>
        </p:blipFill>
        <p:spPr>
          <a:xfrm>
            <a:off x="2071800" y="714240"/>
            <a:ext cx="6076800" cy="2629080"/>
          </a:xfrm>
          <a:prstGeom prst="rect">
            <a:avLst/>
          </a:prstGeom>
          <a:ln w="0">
            <a:noFill/>
          </a:ln>
        </p:spPr>
      </p:pic>
      <p:sp>
        <p:nvSpPr>
          <p:cNvPr id="74" name="pole tekstowe 7"/>
          <p:cNvSpPr/>
          <p:nvPr/>
        </p:nvSpPr>
        <p:spPr>
          <a:xfrm>
            <a:off x="428760" y="3214800"/>
            <a:ext cx="828648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  <a:ea typeface="Arial"/>
              </a:rPr>
              <a:t>Wielokąt A’B’C’D’E’ jest podobny do wielokąta ABCDE ponieważ: 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  <a:ea typeface="Cambria Math"/>
              </a:rPr>
              <a:t>∢A = ∢ A’; ∢ B = ∢ B’; ∢ C = ∢C’; ∢ D = ∢ D’; ∢ E = ∢ E’, oraz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  <a:ea typeface="Arial"/>
              </a:rPr>
              <a:t>A’B’C’D’E’ </a:t>
            </a:r>
            <a:r>
              <a:rPr b="0" lang="pl-PL" sz="2800" spc="-1" strike="noStrike">
                <a:solidFill>
                  <a:srgbClr val="000000"/>
                </a:solidFill>
                <a:latin typeface="Symbol"/>
                <a:ea typeface="Symbol"/>
              </a:rPr>
              <a:t>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  <a:ea typeface="Arial"/>
              </a:rPr>
              <a:t> ABCDE w skali k = 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  <a:ea typeface="Arial"/>
              </a:rPr>
              <a:t>ABCDE </a:t>
            </a:r>
            <a:r>
              <a:rPr b="0" lang="pl-PL" sz="2800" spc="-1" strike="noStrike">
                <a:solidFill>
                  <a:srgbClr val="000000"/>
                </a:solidFill>
                <a:latin typeface="Symbol"/>
                <a:ea typeface="Symbol"/>
              </a:rPr>
              <a:t>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  <a:ea typeface="Arial"/>
              </a:rPr>
              <a:t> A’B’C’D’E’ w skali k =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Obraz 8" descr="wz_1.gif"/>
          <p:cNvPicPr/>
          <p:nvPr/>
        </p:nvPicPr>
        <p:blipFill>
          <a:blip r:embed="rId2"/>
          <a:stretch/>
        </p:blipFill>
        <p:spPr>
          <a:xfrm>
            <a:off x="500040" y="4572000"/>
            <a:ext cx="7429680" cy="990720"/>
          </a:xfrm>
          <a:prstGeom prst="rect">
            <a:avLst/>
          </a:prstGeom>
          <a:ln w="0">
            <a:noFill/>
          </a:ln>
        </p:spPr>
      </p:pic>
      <p:pic>
        <p:nvPicPr>
          <p:cNvPr id="76" name="Obraz 9" descr="wz_2.gif"/>
          <p:cNvPicPr/>
          <p:nvPr/>
        </p:nvPicPr>
        <p:blipFill>
          <a:blip r:embed="rId3"/>
          <a:stretch/>
        </p:blipFill>
        <p:spPr>
          <a:xfrm>
            <a:off x="4857840" y="6072120"/>
            <a:ext cx="183960" cy="5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Zadani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" descr="http://matematykatv.pl/newsy_images/757-853.JPG"/>
          <p:cNvPicPr/>
          <p:nvPr/>
        </p:nvPicPr>
        <p:blipFill>
          <a:blip r:embed="rId1"/>
          <a:stretch/>
        </p:blipFill>
        <p:spPr>
          <a:xfrm>
            <a:off x="395280" y="1484280"/>
            <a:ext cx="806436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ytuł 1"/>
          <p:cNvSpPr/>
          <p:nvPr/>
        </p:nvSpPr>
        <p:spPr>
          <a:xfrm>
            <a:off x="35712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SKALA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ole tekstowe 6"/>
          <p:cNvSpPr/>
          <p:nvPr/>
        </p:nvSpPr>
        <p:spPr>
          <a:xfrm>
            <a:off x="250920" y="981000"/>
            <a:ext cx="8713800" cy="36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kala mówi nam ile razy figury podobne są większe lub mniejsze od siebie. Jest to zawszę liczba dodatnia (k &gt; 0). Jeżeli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k &lt; 1 – to figura podobna jest mniejsza od wyjściowej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k = 1 – to figura podobna jest identyczna jak figur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      wyjściowa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k &gt; 1 – to figura podobna jest większa od wyjściowej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PRZYKŁADY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ole tekstowe 10"/>
          <p:cNvSpPr/>
          <p:nvPr/>
        </p:nvSpPr>
        <p:spPr>
          <a:xfrm>
            <a:off x="357120" y="928800"/>
            <a:ext cx="83581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ZYKŁAD 1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 jakiej skali kwadra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CD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 boku 9 cm jest podobny do kwadratu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FGH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 boku 22,5 cm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504d"/>
                </a:solidFill>
                <a:latin typeface="Calibri"/>
              </a:rPr>
              <a:t>Skalę podobieństwa obliczamy dzieląc długość boku figury </a:t>
            </a:r>
            <a:r>
              <a:rPr b="0" lang="en-US" sz="2800" spc="-1" strike="noStrike">
                <a:solidFill>
                  <a:srgbClr val="c0504d"/>
                </a:solidFill>
                <a:latin typeface="Arial"/>
              </a:rPr>
              <a:t>ABCD</a:t>
            </a:r>
            <a:r>
              <a:rPr b="0" lang="en-US" sz="2800" spc="-1" strike="noStrike">
                <a:solidFill>
                  <a:srgbClr val="c0504d"/>
                </a:solidFill>
                <a:latin typeface="Calibri"/>
              </a:rPr>
              <a:t>, przez długość boku figury EFGH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2627280" y="4365720"/>
                <a:ext cx="3529080" cy="160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  <m:r>
                          <m:t xml:space="preserve">,</m:t>
                        </m:r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,4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PRZYKŁADY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ole tekstowe 8"/>
          <p:cNvSpPr/>
          <p:nvPr/>
        </p:nvSpPr>
        <p:spPr>
          <a:xfrm>
            <a:off x="428760" y="785880"/>
            <a:ext cx="8286480" cy="39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PRZYKŁAD 2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Prostokąt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 ma wymiary 5,5 cm x 6,9 cm. Czy prostokąt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 o wymiarach 38,5 cm x 48,3 cm jest podobny do prostokąta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c0504d"/>
                </a:solidFill>
                <a:latin typeface="Times New Roman"/>
              </a:rPr>
              <a:t>Dzielimy krótszy bok przez krótszy, a dłuższy przez dłuższy, jeżeli stosunek odpowiednich boków będzie taki sam to prostokąty są podobne, jeśli będzie różny to nie są podobn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związani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Obraz 6" descr="p2.gif"/>
          <p:cNvPicPr/>
          <p:nvPr/>
        </p:nvPicPr>
        <p:blipFill>
          <a:blip r:embed="rId1"/>
          <a:stretch/>
        </p:blipFill>
        <p:spPr>
          <a:xfrm>
            <a:off x="2771640" y="1484280"/>
            <a:ext cx="2521080" cy="2495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89" name="pole tekstowe 9"/>
          <p:cNvSpPr/>
          <p:nvPr/>
        </p:nvSpPr>
        <p:spPr>
          <a:xfrm>
            <a:off x="684360" y="4724280"/>
            <a:ext cx="806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Arial"/>
              </a:rPr>
              <a:t>Odp.</a:t>
            </a:r>
            <a:r>
              <a:rPr b="0" lang="en-US" sz="2800" spc="-1" strike="noStrike">
                <a:solidFill>
                  <a:srgbClr val="800080"/>
                </a:solidFill>
                <a:latin typeface="Calibri"/>
              </a:rPr>
              <a:t>  Prostokąt E </a:t>
            </a:r>
            <a:r>
              <a:rPr b="0" lang="en-US" sz="2800" spc="-1" strike="noStrike" u="sng">
                <a:solidFill>
                  <a:srgbClr val="800080"/>
                </a:solidFill>
                <a:uFillTx/>
                <a:latin typeface="Calibri"/>
              </a:rPr>
              <a:t>jest podobny</a:t>
            </a:r>
            <a:r>
              <a:rPr b="0" lang="en-US" sz="2800" spc="-1" strike="noStrike">
                <a:solidFill>
                  <a:srgbClr val="800080"/>
                </a:solidFill>
                <a:latin typeface="Calibri"/>
              </a:rPr>
              <a:t> do prostokąta F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Calibri"/>
              </a:rPr>
              <a:t>             </a:t>
            </a:r>
            <a:r>
              <a:rPr b="0" lang="en-US" sz="2800" spc="-1" strike="noStrike">
                <a:solidFill>
                  <a:srgbClr val="800080"/>
                </a:solidFill>
                <a:latin typeface="Calibri"/>
              </a:rPr>
              <a:t>skala podobieństwa k = 7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3T19:53:49Z</dcterms:created>
  <dc:creator>Wolf</dc:creator>
  <dc:description/>
  <dc:language>en-US</dc:language>
  <cp:lastModifiedBy>Matematyka</cp:lastModifiedBy>
  <dcterms:modified xsi:type="dcterms:W3CDTF">2014-03-05T10:59:12Z</dcterms:modified>
  <cp:revision>309</cp:revision>
  <dc:subject/>
  <dc:title>„Matematyka zawiera w sobie nie tylko prawdę, ale i najwyższe piękno – piękno chłodne i surowe, podobne do piękna rzeźby.”</dc:title>
</cp:coreProperties>
</file>